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BF9A-67C8-4D65-A54C-6310A643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31E8-5AE2-48F5-A445-36A9CFFC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CA90-174B-4429-9593-9200E9D84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D4FB-AFAE-4030-A9F8-720E5D17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CD43F-DD41-4B9F-B9ED-32613A23F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7EB7A-E2B6-4281-A41F-EFE31EDC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1BFF3-13DA-4BFB-8D7F-8EF8A13C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EF098-B6AD-4886-AC33-E24219FE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2FE9C-7F21-4EBE-B904-6E501F8F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6EC7F-2506-4D99-BB4B-9B3D2587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4B404-51D6-4F55-80DE-74D2BDBF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8FEB-6E08-4DC2-9BAE-97405F0D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8078C-F44F-4BD1-9C5B-F8FC2AD6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ED95F-BAA4-48E0-B241-662557E2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DC028-A58E-4549-92BB-44702741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F667F-30ED-42B7-BFDC-0CA419EE7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D6CA7-7556-47CF-8C64-E5E61AE88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1DA7-CD90-4AEB-B732-D762CFB1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A033-B504-46D2-9BB1-B777C511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EAB4-A04E-4B46-A346-84014466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5AAF-2E64-4B9E-809C-F2F313AE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6452-E6AE-416D-A91D-CE7C4754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F618-D7D3-440C-B634-AB8D73CE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D46A-0C56-4DA8-BF18-55DD30A5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CE98-F750-4FAF-8A98-9B614802A7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3C9C-51F1-47BB-9FB2-A908AF088B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e3e3ff"/>
                </a:solidFill>
                <a:latin typeface="Arial"/>
              </a:rPr>
              <a:t>Systematic Theology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Lectures 11 –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Fatherhood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Deity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JESUS is JHW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He is God – Is 9:6, Jn 1:1, 20:28, Is 43:10, 45:22, Phil 2:1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I Am! – Ex 3:13-14, Is 43:10, Jn 8:24, 58, 13:19, 18: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NZ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 and last! – Is 44:6, 48:12, Rev 1:17, 2: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He is the rock – Ex 17:6, Deut 32:4, Is 17:10, Matt 16:18, 1 Cor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10: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He is saviour – Ps 106:21, Hos 13:4, Is 45:21, Acts 2:21, 4:12,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Rom 10: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Lord of lords – Ps 136:1-3, Deut 10:17, 1 Tim 6:14-16, Rev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17:14, 19: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He is creator – Gen 1:1 Is 40:28, Jn 1:1-3, Col 1:15-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Jesus is light – Ps 27:1, Is 60:20, Mic 7:8, Jn 1:9, 8:12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Jesus is Judge – Gen 18:25, Joel 3:12, Rom 14:10, 2 Cor 5:10,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2 Tim 4:1-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10.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Jesus is God – 1 John 5: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His Deity and U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e is the Creator – He has the power – Jn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1:3-10, Col 1:16, Heb 1: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e is the preserver of all – Heb 1:3, Col 1:17,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Jude 24-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e pardons our sins – Lk 5:24, Col 3: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e will raise the dead – 2 Cor 1:9, Jn 5:21-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29, 11:25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e will reward his saints – 2 Cor 5: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e will judge all unbelievers – Rev 20:10-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Worship is rightly given to Him – Ps 95:6, Jn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5:23, Lk 24:5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The Shekinah Glor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God revealed his presence in the form of light, fire, cloud to Israel and earli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In the Garden of Eden, Gen 3:8, Abram, Gen 15:12-18, Moses in the Burning Bush, Ex 3:1-5, Exodus, Ex 13:21-22, at Mt Horeb, Ex 19:16-20, Tabernacle, Ex 29:42-46, to Moses, Ex 33:17-23, Lev 9:6-7, 22-24, Num 13:30-14:45, 16:1ff, 20:6ff, Joshua and Judges, 1 Sam 4:21-22, Solomon’s temple, 1 Kings 8:1-13, 2 Chron 5:2-7:3, Ezekiel 1:28, 3:12, 23, 8:3-4, 9:3, 10:4, 18-19, 11:22-2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Shekinah Glory in the 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o the shepherds, Lk 2:8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 Star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att 2:1-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ew form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Jn 1:1-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ransfiguration, Matt 17:1-8, 2 Pet 1:16-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cts 2:1-3, 9:3-8, 22:6-11, 26:13-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Revelation 1:12-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ribulation period Rev 15: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Second Coming, Matt 16:27, 24:3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illennium, Ezek 43:1ff, 44:1-2, Zech 2:4-5, Is 36:1-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2, 58:8-9, 60:1-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10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Eternal State, Rev 21:1-3, 23-2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Fatherhood of Go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Father over Creation – Eph 3:14-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True relationship – Ex 4: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Father-Son with Jesus – Eph 1: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Eternal relationship – Is 9: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Our Father through Christ – Rom 8:15, Gal 4:6-7. In Christ we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become brothers, Gal 3:27-29, b4 that = sons of our OSN – Jn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8:42-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B4 salvation = sinners not sons. Eph 2:18-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Only God can make us his children, Jn 1:12-13, 3:3, 6, 16, 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Sonship = heirship, Rom 8:16-18, 1 Jn 3:2-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The Holy Spirit is our “down payment” on this, Eph 1: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10.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It is relationship with Jesus alone that delivers the benefits! Jn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8:35, 51, Col 3:24-25, 1 Cor 15:50-5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11.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Confidence = his resurrection, Jn 14:1-14, 1 Peter 1:3-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Lect 12 – Hypostatic Un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 Lord stands under one essence in two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natures; human and divine. Is 7:14, 9:6, Jn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1:1-14, Rom 1:2-5, 9:5, Phil 2:5-11, 1 Tim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3:16, Heb 1: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e is undiminished deity and perfect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umanity; equal with both parties, and so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ble to be mediator and Savio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Virgin Birth = no OSN, 1 Pet 2:22.  he was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born as Adam was made! Hence he is the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Adam, able to undo the fall of the 1</a:t>
            </a:r>
            <a:r>
              <a:rPr b="0" lang="en-NZ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Hypostatic Union (Cont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No power was exercised outside the plan. Matt 4:1-10, 27:40-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 union was personal and a perfect harmony, without any conflict – he is the unique person of the universe that he had made, for he enters it as a creature. Jn 1: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Deity cannot be tempted, humanity can, deity cannot thirst, humanity can, deity is omniscient, humanity learns, Lk 2:40, 5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o be our Saviour and mediator he had to have these two natures, but one essence. Phil 2:7-8, Heb 2:14-15, 7:4-5, 14-28, 1 Tim 2:5-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“</a:t>
            </a: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I Am”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Provision – Bread – Jn 6:30-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Spirituality – light – Jn 8: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Salvation – door – Jn 10: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Guidance – Shepherd – Jn 10: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Resurrection – life – Jn 11:20-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ruth/Life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- way – Jn 14: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Production – Fruit – Jn 15:1-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Jesus is Deit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Sovereign – Rev 1:5, 6, 17:14, 19:1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Eternal Life – Is 9:6, Mic 5:2, Jn 1:1-2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oliness – Lk 1:35, Acts 3:14, Heb 7:2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Love – Jn 3:1, 16, 34, 1 Jn 3: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Unchanging – Heb 13: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ll knowing – Matt 9:4, Jn 18:4, 1 Cor 4: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ll powerful – Matt 24:30, 28:18, Phil 3: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Everywhere – Matt 28:20, Eph 1:23, Col 1 :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ruth  -  Jn 14:6, Rev 3: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Evidence of His Pers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e is creator – Jn 1:3-10, Col 1: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e is preserver – Col 1:17, Heb 1: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e pardons sin – Lk 5:21-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e raises the dead – Jn 5:21-29, 11:42-4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e will reward the saints – 2 Cor 5: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e will judge the world – Jn 5: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e receives worship – Heb 1: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3:44:31Z</dcterms:created>
  <dc:creator>John McEwan</dc:creator>
  <dc:description/>
  <dc:language>en-US</dc:language>
  <cp:lastModifiedBy>John McEwan</cp:lastModifiedBy>
  <dcterms:modified xsi:type="dcterms:W3CDTF">2011-02-08T05:27:50Z</dcterms:modified>
  <cp:revision>8</cp:revision>
  <dc:subject/>
  <dc:title>Systematic The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