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E48-421F-475B-88F2-44D3A3F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463-30B1-4AB5-B9CA-3F08E57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EE7-879E-4E49-888E-C044B185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ACC-CDF1-416A-8616-784A993C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D8B8-5574-4933-9429-69484BA7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85C9B-166F-48C1-AA6C-3CC28BE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238DF-B036-466D-B9BF-69A8766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28781-96D5-47D3-9668-E988822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9710-26A8-4F58-9E87-FCB8FE0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E9973-298A-47D4-995B-174539AC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E8C70-C45C-4B1B-90DB-3DC824F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899-CC21-4910-85D2-E849928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F57AA-9017-4471-B89D-FC2D5E4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57428-492C-4B5E-BD94-B82D1D7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F7CA5-2C9C-4635-89EC-D4825E18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0F22-9BD8-4F32-9CFC-C90525A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F8CED-DB89-4ABE-BDCF-C23E14EE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BDF-DA2C-492B-9193-8F53D8D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CF6-C3BC-41A3-A890-0368AC9B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748-CB90-4D6A-BFE9-9929D27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B3D-9996-499E-89EA-770A079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737-5556-47BC-AE1F-36D514F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433-4FA1-4F41-972A-912DCB2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2CE-88BF-428A-AB69-8D7E0D6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040-C214-4844-BC68-CF3DAD5FF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154B-EAA0-49D8-92CC-7D1EA38DC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Systematic Theolo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Lecture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Lord’s Ministry and Charac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Unique Life of Chr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Virgin Birth (as seen earl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Hypostatic Union (as earl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six trials – Annas, Jn 18:12-13, Caiaphas, Matt 26:57, Sanhedrin, Lk 22:66, Pilate, Lk 23:1-7, Herod Antipas, Lk 23:8-12, Pilate again, Lk 23:13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Unique Substitutionary Death; begins at 9am, Mk 15:25, darkness covers the earth, Mk 15:33, he bears our sins, Matt 27:46, He cries aloud, Ps 22, salvation’s work is completed 3pm, Lk 23:44-46, Jn 19: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is Unique Dea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emple veil torn, earthquake, Matt 27:51,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raves opened, Matt 27:52-53, thieves leg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roken, his not, Ps 34:20, Ex 12:46, J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9:32-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uried by two Pharisees, both rich men, laid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 their tomb, Jn 19:37-42, guarded by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emple police, Matt 27:62-6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body was in the tomb, Matt 27:57-60, hi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ul was in Paradise, Lk 23:43, His Spirit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as with the Father, Lk 23:46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is Unique Resurr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dies as the Pascal Lamb, and rises o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Feast of Firstfruits, as the first fruit from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dead. Lk 23:43-46, 1 Cor 15:22-2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s Ascension to heaven underlines who he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s, and what the plan is. Lk 24:50-53, 2 Cor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:7-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His Session, seated now at the right hand of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ajesty to make intercession for us place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us in the place of power in prayer. Ps 110:1,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l 3:1, Heb 1:13, Rev 20:10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Kenosis of Chr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emptied himself, making himself of “no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putation” to win our salvation. Phil 2:5-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the creator, and he became a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reature. There is no greater humility tha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, and then to submit to the Cross i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eyond all 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 lift us up beyond the angels be became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ower than the angels and suffered to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hieve his plan for us.  He was born a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dam was made, and so was able to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vercome the first Adam’s sinful lega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Blood Sacrif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From the Garden of Eden it was decreed that the blood of the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nnocent animal was to be shed to underline for man the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eriousness of sin, and the need for the sacrifice to atone for it.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Gen 3:21-24, 4:1-8.  Cain rejected this requiremen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 phrase “the blood of Christ” sums up all the work of Jesus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upon the Cross to win/purchase our salvation and deliverance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from sin and the legacy of the fall. Rom 3:25, Eph 1:7, Heb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9:2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re are 12 elements of grace in the Blood; new covenant,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eb 8:8, 9:20-21, new life, Jn 6:53, Redemption, Eph 1:7-9, 1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Pet 1:18-19, Propitiation, Rom 3:25, Justification, Rom 5:9,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anctification, Heb 13:12, Cleansing, Heb 9:14, Victory, Rev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2:11, Sprinkling, Heb 10:22, made nigh, Eph 2:13, Peace, Col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1:20, Boldness, Heb 10:19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9:29:19Z</dcterms:created>
  <dc:creator>John McEwan</dc:creator>
  <dc:description/>
  <dc:language>en-US</dc:language>
  <cp:lastModifiedBy>John McEwan</cp:lastModifiedBy>
  <dcterms:modified xsi:type="dcterms:W3CDTF">2011-02-08T22:24:20Z</dcterms:modified>
  <cp:revision>7</cp:revision>
  <dc:subject/>
  <dc:title>Systematic The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