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4ADA4-E574-46D5-BAA5-978F4C69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BD8D8-A49E-486E-B8EB-BCA159A6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67C3A-E0A9-4A31-B56D-A7E6E39D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3CCDC-3E0F-4EE6-BBC4-804B4390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6768-F4A4-4B4C-B0EA-756D0DB6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C085-CEA0-4DE8-83D9-54B8A4B2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74C5-ED46-4B53-9B4F-2E9DBCE3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5C8B-0C28-42D8-8A62-B5E6EA60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40F7-3F95-4118-842F-081DC38A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67FC-E273-491F-B0C6-C993F41E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9EE3-62F5-4071-8CBD-AD5BA3B9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9A99-393B-468C-A5C1-DF2C3713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AE5A-19AD-4644-9F0B-DB8F532C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7190-3727-45FF-A4B1-EE90ED5D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BF94-2425-4AF1-9A2F-90E51D5E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B120-FF6E-4D4E-82CF-7248544C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0557-D290-411F-96C8-1235DAF5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C524-0E77-489D-9A53-E578A109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339B7-81DA-463B-B187-49471FC1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405E-72A5-44FE-84EE-1162B0E7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AB534-E7F4-4BC4-9007-50C10615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40AD-D818-4871-844C-CAC97F49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8D51-9F3C-4138-A6F6-B04A82D9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E3C50-071D-41B6-B3FA-20890F08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E7CD-0693-4FCC-91A5-9D0253EC23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3DFF-6D80-4215-B16D-88B8679316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e5e5ff"/>
                </a:solidFill>
                <a:latin typeface="Garamond"/>
              </a:rPr>
              <a:t>Systematic Theolog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Lectures 26-2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Filling of the Holy Spir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Other Minis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Filling of the Holy Spiri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e are commanded to be filled with the Holy Spirit, Eph 5:18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Do not grieve, Eph 4:30, nor quench, 1 Thess 5:19, the Holy Spirit’s work withi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Confession, 1 Jn 1:9 restores fellowship and spiritual power. Producing the character of Christ within the believer, Gal 4:19, 5:22-23, Eph 3:16-17, Phil 1:20-21, 2 Cor 3: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 Fruit of the Spirit is produced by the filling of the Spirit, Gal 5:22-23, Rom 6:21-23, 7:4-6, 14:17, Col 3:12-15, 1 Thess 1:3.  These are the signs of an obedient follower of Christ, Matt 7:13-23, Jn 15:2-15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Carna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e have an OSN after salvation, Rom 7:14-15, 1 Jn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1:8-1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It is desperately wicked, Jer 17:9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Under OSN control = Carnal, 1 Cor 3:1-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 OSN frustrates spiritual produ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e are conceived with it, Ps 51:5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e are born spiritually dead, Rom 5:12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7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Spirituality is the opposite to carnality; and is obtained by confession and the filling of the Holy Spirit, as when the Spirit controls our life we are Spiritual. 1 Cor 2:11-13, Eph 5:18-2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Lect 27 – The Comfor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He abides forever with the saints, Jn 14:1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He dwells within us, Jn 14:1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He teaches the saints, Jn 14:2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He testifies of Christ, Jn 15:2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He imparts Hope/Confidence, Rom 15:13, Gal 5: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He communicates joy, Rom 14:17, Gal 5:22, 1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ss 1: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7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He gives us the love of God, Rom 5:3-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8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He edifies the church, Acts 9:31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Divine Guid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God’s will for mankind is salvation and service, 1 Jn 3:23, 2 Peter 3:9, 18, Eph 5:18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Our free will is to be expressed, as Jesus was, to serve the Lord our God, Matt 26:42, Heb 10:7-9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Directive will – Num 22:12, Permissive will, Num 22:20, Over ruling will, Num 23-2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Principles for guidance; know the Word, be filled with the Spirit, Grow spiritu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Viewpoint will of God, Operation will of God, Geographical will of God.  Example – Acts 11:5-16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Spiritual Gif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Spiritual gifts are many – Rom 12:3-8, 1 Cor 12:28-30, Eph 4:11.   Filling is needed for function – Acts 2: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ir purpose is to build up the Church as a whole, not build up individuals, Eph 4:8-1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Gifts are given by the Holy Spirit at salvation, but we grow up spiritually to discover them. 1 Cor 12:1f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Some gifts were temporary, others permanent for the work of the Church body, 1 Cor 13:8ff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 Holy Spirit is sovereign in gift giving, as God alone knows what the Church needs, and will always ensure every church has the gifts it needs to fun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3:34:28Z</dcterms:created>
  <dc:creator>John McEwan</dc:creator>
  <dc:description/>
  <dc:language>en-US</dc:language>
  <cp:lastModifiedBy>John McEwan</cp:lastModifiedBy>
  <dcterms:modified xsi:type="dcterms:W3CDTF">2011-02-10T07:47:55Z</dcterms:modified>
  <cp:revision>5</cp:revision>
  <dc:subject/>
  <dc:title>Systematic The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