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986E-DE3E-44A4-A756-4CA78CB8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30FCE-87B3-4708-97F2-61B37104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73CE-7245-425F-ACCE-EC94DE0B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C4C2-DD91-40BD-9491-688DD696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1B49-9563-4D9D-A11F-DB150D16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FBEB-9F51-43A9-BFBB-09FC7825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33C0-C35C-43DF-85A3-7DEC466E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0A82-5622-46E9-ABC0-C9FB9D51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D2CC-6EB3-4BD6-A5EB-67A728E6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8880-B75B-4FDD-9858-E97D1D74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B210-A76E-4041-9C19-5D10A15A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CA3D-7EBB-4CF1-8B72-AF09B155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5AE8-C783-48D7-A86C-501F7173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2868-BB73-4E40-968F-FFF8EDDC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1408-5B02-48DD-A306-7BD45098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EB5A-F28E-41AE-92B8-8F1F816E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D788-487A-4A37-8147-741DDFE7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A1B4-0484-4FB5-922B-3B6BA8AB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B97B-4AF5-4F0A-80A1-13CB6AA1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E6252-31FA-46CA-ACAD-7785A39B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A64B-8356-4386-8F7A-47CF87C2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BE4A-0CFC-4DA6-AD9C-8DBCFEC2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9423-8B4B-4463-A8CB-EC6A84B6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8AD58-05B3-46FB-AB9C-7C9160BD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CDE7-2E55-45B2-A2BB-394C33C7EC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9597-056A-40EE-A926-DA70619A2F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e5e5ff"/>
                </a:solidFill>
                <a:latin typeface="Garamond"/>
              </a:rPr>
              <a:t>Systematic Theology Pneumatolog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Lectures 20-2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 Holy Spirit – Ministries Through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The Holy Spirit is G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 Holy Spirit is a member of the Trinity, Is 6:8-9, Acts 28:25, Jer 31:31-35, Heb 10:1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e is Sovereign, 1 Cor 12:11, All Knowing, 1 Cor 2:10-11, All Powerful, Gen 1:2, Everywhere, Ps 139:7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In the Old Testament period He ministered in a restricted manner to now, after the Cross. He did not indwell all believers; only a few were empowered for specific work and then the Spirit left them. Gen 41:38, Ex 28:3, 31:3, Num 11:17, 27:18, Judges 3:9-10, 6:34, 11:29, 13:24-25, 14:5-6, 15:1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OT Ministry of the Spiri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Kings and prophets were at times filled with the Spirit; 1 Sam 10:9-10, 16:13, Dan 4:8, 5:11, 6: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 Spirit was removed for discipline, or when a job was over. 1 Sam 16:14, Ps 51:1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Believers asked for assistance from the Spirit, but his indwelling was not permanent. 2 Kings 2:9-10, Lk 11:1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7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Jesus gave this sort of temporary empowerment when he left the disciples after the resurrection, Jn 20:22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Symbols of the Holy Spiri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Dove – Matt 3: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Oil  -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 Ex 35: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ater  -  Jn 7:38-3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ind   -   Acts 2: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Fire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-    Acts 2: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Sealing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-   Eph 1:13, 4:3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Pledge    -    Eph 1:14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Lect 21 – Ministry to the Lor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is was prophesied, Is 11:1-3, 42:1, 61:1-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Virgin Birth was by means of the Spirit, Ps 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40:6, Matt 1:18, heb 10: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 Spirit was given “without measure” to 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Jesus, Jn 3:3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as involved at the baptism, Matt 3: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Sustained the Lord throughout, Matt 12:18, 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Lk 4:14-18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e5e5ff"/>
                </a:solidFill>
                <a:latin typeface="Garamond"/>
              </a:rPr>
              <a:t>Assistance to the Lord’s Humanit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 Lord acknowledged the assistance, Is 44:1, Matt 12:8-28, Lk 4:14-2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7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 sustaining ministry was withdrawn while He bore our sins, Matt 27:46, Ps 22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8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He had a part in the resurrection of the Lord’s human body, Rom 8:11, 1 Pet 3:18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9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 Spirit continues to minister to the glorified Lord, Jn 7:39, 16:1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10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e are commanded to “be filled” as the Lord was, Gal 4:19, 5:16, Eph 3:16-17, 5:18, Rom 13:1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Sins Against the Spiri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Resisting the Spirit – Unbelievers only – Acts 7:51,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Jn 16:8-1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Blasphemy against the Spirit – Unbelievers only –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Matt 12:3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Lying to the Spirit – Believers only – Acts 5:1-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Grieving the Spirit – Believers only – Eph 4:3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Quenching the Spirit – Believers only – 1 Thess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5:19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6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Unpardonable Sin – Unbelievers only – Matt 12:22-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32. Not possible for believers to do this, Is 1:18,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44:22, 1 John 1:7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Lect 22 – Ministries in the 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UNBELIEVERS - Restraining – 2 Thess 2:7 –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Convicting of sin, Jn 16:8-11, Regenerating, Jn 3: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BELIEVERS – Regenerating – Jn 3:1-16, Baptism,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Acts 1:5, 1 Cor 12:13, Eph 4:5, Indwelling, Rom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8:9, 1 Cor 6:19-20, Sealing, 2 Cor 1:22, Eph 1:13,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4:30, Gifts, 1 Cor 12:1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Ministry power, Eph 2:10, 5:1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Filling, 1 Jn 1:9, Eph 5:18, Growth in Christ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Likeness, Gal 4:19, 5:22-23, keep the Law, Rom 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8:1-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0:56:36Z</dcterms:created>
  <dc:creator>John McEwan</dc:creator>
  <dc:description/>
  <dc:language>en-US</dc:language>
  <cp:lastModifiedBy>John McEwan</cp:lastModifiedBy>
  <dcterms:modified xsi:type="dcterms:W3CDTF">2011-02-09T22:19:30Z</dcterms:modified>
  <cp:revision>8</cp:revision>
  <dc:subject/>
  <dc:title>Systematic Theology Pneumat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