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477-5CB9-4222-B8EF-3E13F82E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4BE-A6DA-4BE7-9FF0-D58AD727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8C0-877A-478C-AD98-D75C7E15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1FC-5CA5-4617-86DD-2784EA91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9B47-5A0B-479A-89E1-FDF961B5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4804-1F80-48F8-A298-AB1EE96B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D964-27FB-4CD6-80D4-48D01F0D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24AD-D146-409A-B58E-10CB1F61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6A70-16F6-41A6-89D1-5BBA0018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0CE3-8E9D-4189-B254-0BF406FD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D040-B268-4C45-A67C-760D71F1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E5D-389B-4A10-A9C2-20DDB0F3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51A8-B601-42C4-B3F9-BDA92A69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225E-99C2-4809-9BC5-17DA414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E731-C4FB-4462-A41B-BC4E1EA8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4B38-FF00-45F5-ABE9-3A44DC7C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1551-A21C-4D88-90F0-E7C872F9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F51-6203-4416-A6A3-81AC10EE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579-5590-43A4-A80B-8643DA58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09D-EB85-43C4-8965-4BF24EB2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8DD-381D-41AA-9F64-E437FD0E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D25-B933-49A2-B253-54A6665F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6CA-2CA3-4666-AF5B-60A0F8F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077-F62F-4059-80BA-F47BA4A6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2BF9-9C58-4358-A973-361F2C7ED20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BD51-CC7C-4E93-8978-0A3E67BE2CA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dbbd71"/>
                </a:solidFill>
                <a:latin typeface="Arial"/>
              </a:rPr>
              <a:t>Systematic Theolog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ectures 5 –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terpretation, Consecration, and Canon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dbbd71"/>
                </a:solidFill>
                <a:latin typeface="Arial"/>
              </a:rPr>
              <a:t>Hermeneutics – the Rules for Interpretation of Scriptur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Consider the purpose of the Bible as a whole; no 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contradictions will be fou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Consider the message of the book as a whole, before jumping 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to a conclus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Consider to whom it was written and the time of its writing, as 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revelation unfolds in sequence and later words modify the 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application of earlier 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Consider the Context of the vers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Consider similar passages in other pla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Accurately exegete the original langua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Unless otherwise indicated the “plain sense is to be taken lest 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you produce nonsense”. Literal meaning 1</a:t>
            </a:r>
            <a:r>
              <a:rPr b="0" lang="en-NZ" sz="2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Guard against your own education and training! Let scripture 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teach you; don’t tell it what to say to suit your old prejudi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Consecr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Full surrender of self to God, Rom 6: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o deny self, and accept the Lord’s will to be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done, Matt 16:24, 26:39, Gal 2:2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is is the true gift of our self, Rom 12:1-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Our body is the temple of the Holy Spirit, we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are to shine out His presence, Matt 5:14-16,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 Cor 3:16-17, 2 Cor 6: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e are set apart for God’s service and are to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be holy and active in his ser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Lecture 6 - Canonic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anon means “rule or standard”, and it was over time that the Bible books were accepted as God Breathed as our standard for liv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O.T. Criteria for inclusion: inspiration, 2 Pet 1:21, acceptance by other authors, Neh 8:1-8, Dan 9:2-6, cf, Jer 25:11-12, 29:10, quotation, Matt 22:29, Jn 5:39, 10:35, recognition, 2 Kings 22:1-23:2, external history that changes the nation, eg Exile and Ezra’s resultant work to start formalizing the OT Can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OT Canon (Cont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number of OT books in Hebrew is 24, in English is 39, as a number are combined in the Hebre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order differs in Hebrew, with Torah, Prophets (former – b4 Exile, and “later” – after Exile), Writings (Poets, 5 rolls, Histories, Dan, Ezra, Neh, Chro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Disputed books until the 5</a:t>
            </a:r>
            <a:r>
              <a:rPr b="0" lang="en-NZ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century AD were Esther, Song of Songs, Eccles, Ezek, Prov. Apocrypha books were written 425-50 BC, and were in the LXX and later Vulgate, but not in the Hebrew Bible of the Rabb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NT Can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Apostolic Authorship, or by one close to an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Apost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arly Acceptance by the church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onsistency of Doctrine with OT/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nspiration acknowledged by a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Recognition by Church Council, Laodicea 226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AD, Damascus 382, Carthage 397, Hippo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41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nternal evidence of worship, Col 4:16, 1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ss 5:27, 1 Tim 4:13, Rev 1: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The False/cultic Book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ome books gained acceptance slowly as there were many false books jostling for position.  (Satanic counter-attac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Pseudepigrapha, false gospels and acts of apostles from 2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and 3</a:t>
            </a:r>
            <a:r>
              <a:rPr b="0" lang="en-NZ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centu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pocrypha, rejected as inspired by widely used; Acts of Paul, Ep of Barnabus, Shepherd of Hermes, Revelation of the 12, Revelation of Pe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dbbd71"/>
                </a:solidFill>
                <a:latin typeface="Arial"/>
              </a:rPr>
              <a:t>Greek Grammar – Precise verbal meaning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ENSES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Present continuous, Imperfect – continuous action in the past, Aorist – action at a point in time, Perfect – completed action in the past, but results contin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MOOD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Imperative – command, Indicative – reality, Subjunctive – potential action, Infinitive – purpose/inten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VOICE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ctive – you do it!, Passive – it is done to you, Middle – benefit from the a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onditional Clauses – four (4) “IF”s; if and its true, if but its not true, if but it maybe true, and if, I wish it was, but it isn’t tr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is language, put together by Alexander the Great as a combined Greek language is perfect for precisio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20:12:10Z</dcterms:created>
  <dc:creator>John McEwan</dc:creator>
  <dc:description/>
  <dc:language>en-US</dc:language>
  <cp:lastModifiedBy>John McEwan</cp:lastModifiedBy>
  <dcterms:modified xsi:type="dcterms:W3CDTF">2011-02-07T19:28:23Z</dcterms:modified>
  <cp:revision>8</cp:revision>
  <dc:subject/>
  <dc:title>Systematic The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