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D3F-27EB-4A9D-B17C-4F5B048C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30CE-48EA-4FC5-A382-FE1B28E3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834-D17B-4A53-BB0E-5E7BBBC9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C49-43BA-45CA-9645-988BE660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1969-BD59-44F2-9265-3C86EAD1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F745-5031-4C4D-A2AD-650CD684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0D3D-0CBF-4B59-95C6-40DB2D41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0368-074C-4C64-8516-E1B1C5CA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596B-F0C0-4298-AB17-40EF7E43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ABA7-5BBA-433A-97A6-C7EB36B6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B10C-5DB7-47B0-9781-41DAD068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063-5F79-4674-A662-75B6CD87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6045-109C-45C9-BBDC-4985BC5C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CECA-606C-4683-B387-9C0EF575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4407-BC1C-4FF4-BFAC-7CDC9AD8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808E-2BF7-4A24-8C1D-72B5231C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0881-A39C-4D34-84AA-1E9791F3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175-56D8-4CC4-BD86-2C58C1E7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2C3A-235B-4C0B-9644-407B42C7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447-6C20-4669-A80C-83C7F889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5C4-BD60-4ED3-B37D-5487795F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AE4-8177-43D7-A9E2-24F4E6D9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02E-8293-4A60-861A-E79ADDB4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9E0-0D2C-4152-A891-1D25979F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A971-BDAC-46F9-8649-A738D444EAD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D91E-6694-4980-9255-A2AFB384D58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dbbd71"/>
                </a:solidFill>
                <a:latin typeface="Arial"/>
              </a:rPr>
              <a:t>Systematic Theolog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Lectures 7 –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 Bible – Subject and Purp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Biblical Reve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Ignorance is NOT Bliss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John 20:30-31, 21:15, Colossians 1:12-2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gnorance in the past – Blinded by Pride – Romans 10:3, 1 Cor 10:1-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gnorance in the present – Immaturity and lack of enthusiasm for Bible Doctrine – 1 Cor 12:1-11, 2 Cor 1:8-11, 2:10-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gnorance in the future – Rapture of the Church – 1 Thess 4:13-1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Humil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It is to be sought/learned, Zeph 2: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It’s fruit is restraint, Luke 6:28-2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It is produced by the Holy Spirit, Gal 5:22-2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It is essential in teaching, 2 Tim 2:2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It is essential in learning, Jas 1:21, 4: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It is of great value to God, Prov 3:34, 1 Peter 5:5-1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It is God’s path to promotion, 1 Peter 5: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It reflects true assessment of self, Rom 12: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Biblical mentors, Moses, Num 12:3, David, 2 Sam 16:11, 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Jeremiah, Jer 26:14, Stephen, Acts 7:60, Paul, 2 Tim 4:1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Qualities of Humility – Forbearance, Eph 4:2, 6:9, Col 3:13, 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Endurance, 1 Cor 13:7, Jas 1:12, Compassion, 1 Thess 2:7, 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Peaceability, Jas 3:1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11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Christ mentors humility, Is 53:1-7, Matt 11:29, 21: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12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Promises = Ps 22:26, 37:11, 147:6, Is 29:1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Spiritual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Walking in the power and direction of the Holy Spirit = spirituality.  It is an active state, lost by sin (grieves the Spirit), and lost by evil (rejecting biblical standards – quenching the Spirit). Be filled, Eph 5:18, Do not grieve, Eph 4:30, Do not Quench, 1 Thess 5:19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If the Spirit’s work is stopped for any reason, the believer is to stop, pray, confess, and commit themselves back to God’s power. 1 John 1:5-10, Romans 12:1-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The Spiritual Believ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Only work done in the power and filling of the Holy Spirit is worthy of God and useful in His Plan. Romans 8:8-9, 1 Cor 3:10-1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spiritual believer imitates God’s Character, Eph 5:1, 1 John 3:9, glorifies Christ, John 7:39, 16:14, Fulfils the Law, Rom 8:2-4, 13: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ree categories of people; natural, 1 Cor 2:14, spiritual, 1 Cor 2-3, Eph 5, carnal, 1 Cor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dbbd71"/>
                </a:solidFill>
                <a:latin typeface="Arial"/>
              </a:rPr>
              <a:t>Carnality Defeated by God’s Power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We have an OSN, Rom 7:14-20, 1 John 1:5-10. It is desperately wicked, Jer 17:9. When it controls us we are carnal, 1 Cor 3:1-4. The OSN frustrates production, Rom 7:15. It comes with our birth, Ps 51:5. We are spiritually dead because of it until the Spirit brings us life, Rom 5:1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We have power through the Spirit alone; 1 Pet 1:5, 2 Cor 12:9-10, Acts 1:8, Heb 4:12, 1 Cor 4:20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Lecture 8 - Heathenis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3 Systems for understanding;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empiricism, rationalism, faith.  Eph 2:8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God consciousness exists in all peoples, but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is buried and blinded by Satanic counterfeit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philosophies.  Ps 42:1-2, Acts 17:27, Romans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:19-2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God has provided salvation for all; John 4:9-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0, Romans 1:20-21, 2 Peter 3:9, 1 John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2:1-2, Revelation 20:10-1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Fundamentalis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Virgin Birth and the Lord’s De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miracles of Christ and the Apos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Cross as His substitutionary sacrifice for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sins of all mank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Bodily Resurrection of Je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Certainty of his Second Advent to rule and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judge mank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Inerrancy of the Scrip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certainty of satanic attack on the abo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Revel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God reveals himself to man through the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creation and his work through his servants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and the Messiah, Acts 17:22-31, Rom 1:18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Revelation is both general and specific, and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unfolds (is progressive) through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God has given his Spirit to reveal the truth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directly into the heart of fallen mankind.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John 16:8-1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Nature proclaims God’s creative power; Ps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9:1, Rom 1:20, Acts 14:17, Matt 5:45, Acts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7:28-2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9:26:24Z</dcterms:created>
  <dc:creator>John McEwan</dc:creator>
  <dc:description/>
  <dc:language>en-US</dc:language>
  <cp:lastModifiedBy>John McEwan</cp:lastModifiedBy>
  <dcterms:modified xsi:type="dcterms:W3CDTF">2011-02-07T20:20:25Z</dcterms:modified>
  <cp:revision>9</cp:revision>
  <dc:subject/>
  <dc:title>Systematic The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