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42F-0AED-49BF-8652-0BEA853B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209-3D57-4070-A8DC-D131978A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2F9-5EC7-476E-AD74-8E6A417A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3CE-E22C-4656-9621-C0033389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9CF4-148E-49F1-9C26-29FDB3BA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2CDE-D02F-4D32-A85D-5CB0F531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D7BB-7546-467F-87C7-4F79F22E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1341-48EC-457E-B1F8-D6BEF86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2D91-E6A2-4784-8235-10829808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1372-8BCE-461C-BCFA-C92E2FC5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62FF-A9CB-4DB3-9BAC-F9C94195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0B0-CE38-429D-AA3A-D13BB613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D116-ADFE-46DE-852C-2F97289C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F19B-AA83-40BD-BF43-12786E9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E2DE-8324-425B-93ED-2A373B14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760E-00CE-46FF-9FF4-9048336C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8F29-1AB0-440F-BBA2-3DE6D726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950-F3E6-4704-9FB5-4F45650F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A52-0062-42B3-A466-33C6730B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442-7B71-430D-AC6A-0F71610F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312-99F8-4065-89A2-E3D88A47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932-BCA2-473B-8233-A005DE5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306-3358-4C20-A34B-5AD225A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AA0-2284-4326-BCD3-E83D7FC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C62D-DD0D-4899-90D8-D4E12B3DCB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EF8F-A042-48F7-B014-C808BABF2A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dbbd71"/>
                </a:solidFill>
                <a:latin typeface="Arial"/>
              </a:rPr>
              <a:t>Systematic Theolog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ectures 3 –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spiration and Inerr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Feeding on the Wor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Lets check out our attitude to the Word of God, in light of the apostolic standa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atthew 5:14-20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Be better than a Pharisee in your handling of the Wor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 Cor 2:13-16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hrist’s Mind is her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 Tim 5:18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pastor teach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 Tim 3:14-17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Word is central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 Peter 1:16-21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ur “sure word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 Peter 3:9-18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Be more sure of the Word than of this present worl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EPIGNOSIS – Full Knowled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Full knowledge is knowledge that works out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n life, James 2:12-26, 4:6-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Holy Spirit is the teacher, Jn 14:16-20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5:26, 16:7-15, 1 Cor 1:19-2: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rowth in the Word = fruit in the life, Matt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7:13-23, Col 1:9-11, Phil 1:9-1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od has provided all we need to grow and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erve, Eph 4:12-16, 5:16-18, 6: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ynonyms = put on armour, Eph 6:11-13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follow the pastor into the Word, Heb 12;1-2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Phil 3:13-17, be godly, 1 Tim 6:3-6, 2 Pet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:3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INSPIR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cripture is “God Breathed”, 2 Tim 3: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Holy Spirit communicated through the human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uthors, 2 Sam 23:2-3, Is 59:21, Jer 1:9, Matt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2:42-43, Acts 4:12, 24-25, 28:2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cripture is beyond human viewpoint, 2 Pet 1:20-21,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mind of Christ, 1 Cor 2:16, our absolute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tandard, Ps 138: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od revealed through words, Is 6:9-10, dreams,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en 15:12, 31:10-13, Num 12:6, Dan 10:9, visions,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s 1:1, 6:1, angels, Deut 33:2, Acts 7:5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od’s Word records all that man needs to know for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alvation and spiritual growth/service. Jn 20:30-31,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1:2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Note the fulfilled prophecies recorded in the BTB stud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INERRANC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od’s Word can be trusted absolutely, Matt 4:1-11, 5:17-18, 22:23-33, 41-46, Jn 10:31-3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cripture is the standard for truth, Jn 10:35, Dan 10:2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ource is the perfect God and so it is perfect/complete, 2 Tim 3:16, Jas 1:17, 2 Pet 1:19-21, 1 Jn 1: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cripture is the final authority to appeal to, Romans 4:3, 11:2, Galatians 4:3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bbd71"/>
                </a:solidFill>
                <a:latin typeface="Arial"/>
              </a:rPr>
              <a:t>Inerrancy (Cont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od’s Word is authoritative, Matt 26:31, Mk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4:27, Acts 23:5, Rom 11: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o not know the scripture=be in error, Mark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2:2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Lord believed the Scriptures; one Isaiah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s 61:1-2, cf Lk 4:16-21, Is 6:1-4, 9-10, cf Jn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2:38-41. Jonah was a prophet, Matt 12:39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Daniel a prophet, not a historian, Matt 24:15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k 13:14. Adam and Eve were real, Matt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19: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Bible=God’s Word, Mk 7:13, Lk 5:1, 11:28,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Jn 10:35, Acts 6:7, 12:24, Rom 10:1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8:57:28Z</dcterms:created>
  <dc:creator>John McEwan</dc:creator>
  <dc:description/>
  <dc:language>en-US</dc:language>
  <cp:lastModifiedBy>John McEwan</cp:lastModifiedBy>
  <dcterms:modified xsi:type="dcterms:W3CDTF">2011-02-06T20:11:53Z</dcterms:modified>
  <cp:revision>7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