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83F-3A32-40F3-BDE0-3FDBFE50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585-DC35-40F1-B0B3-27079EB6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72E-F8D8-4B0D-A9B2-6B71A6BF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45E-6D1A-41EA-8DE8-05931C7B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C46C3-21CC-427F-99D3-14E139DF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FBC7C-995D-46B9-8689-9964A6F5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58E7F-E6A1-4F36-8A89-63DDFAE9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B5F2A-5E23-42D8-A949-FA776A6A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26628-D43A-44AA-BA70-72029761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51D50-6CFD-4CFF-807C-5E26BB92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BA9CE-9808-4BE7-B638-E8326798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3E2-1AA7-4195-BA96-A1C4AB5F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7CB40-A48C-4CD4-8738-CDFA9E8A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BB27F-F5A4-40DD-8150-997D01D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20EA8-EAE1-4826-9266-30D9856D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43FF2-27D0-4CC0-86EE-0B841C87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152F9-4845-41EA-9DF3-E5B10B4C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EE2-4DF1-4EA0-BE75-BE37CD53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1E8-6DF6-4FAD-BDBC-8FA25563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589-D557-4255-A5F9-C2506496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F2E-7D80-4E15-803B-27063967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C0C-EE4F-4C25-851A-3BB8D79E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319-2F47-4083-839D-74BB976E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06A-FC4D-48EC-8C41-272EE275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9F34-326D-49C8-8F27-63C9C240C2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F571-6119-423D-8732-8888108740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Systematic Theolog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ology Proper – the Study of the Character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Lectures 9 -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Names and Title of G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The names Father, Son, and Holy Spirit emphasize the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function of the Godhead as it is revealed to us in space and time.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Matthew 28:19-20, Rom 5, 15, 1 Cor 12, Eph 1.  the titles are all used. 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We are indwelt – Jn 14:23, 1 Cor 6:19, Col 1:27, Eph 4: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At the baptism the Son obeys the father speaks blessing and the Spirit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an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The Father sends the Son, John 3, and the Son sends the Spirit, John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14-1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The Holy Spirit is called God in Acts 5, 1 Cor 3, and Lord in 2 Cor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3:1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Each person of the Godhead is described as being involved in the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ncarnation; Matt 18:28, Jn 3:34, Lk 1:35, 2:11, Jn 8, 10, 1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The Father gives the Son, Rom 8:32, the Son offers himself, Jn 10:18,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the Holy Spirit empowers Him, Heb 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All three are referred to in the resurrection; Col 2:12, Jn 2:19, 10:18, 1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Peter 3:18, Rom 8: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ANGEL OF JHW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e Angel is JHWH, Gen 16:7-13, 22:11-18, 31:11-13, Ex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3:21 cf 14: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e Angel is distinguished from JHWH, Gen 24:7, Ex 23:20, 1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Chron 21:15-18, Zech 1:12-13.  The Angel is 1 of the trin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God the father cannot be seen face to face, Ex 33:19-23, Jn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4:1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Jesus tells us that it was He. Jn 8:58, 1:18, 6:46, 1 Tim 6:15-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6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e does not appear again after the First Advent, 1 Jn 4: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e appears in the OT to Jacob, Gen 32:24-30, 48:16, Moses,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Ex 3:2, 14:19, 23:20-23, Joshua, Josh 5:13-15, Gideon, Judg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6:11ff, Elijah, 1 Kings 19:5-7.  He appears in Babylon to deliver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is three servants, Daniel 3:25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Trinity in the Old Testa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plurality of God is referred to in Gen 1,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3, 1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unified title JHWH also is used to refer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o personalities, Num 6:24-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father speaks of the Son, Ps 2:6-7, the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pirit, Is 11: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“Holy, Holy, Holy” for worship, Is 6: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Jesus reveals himself as the “I Am”, The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“Angel of the Lord” - Ex 3:14 – Jn 8:58, Ps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0:16, Rev 11:1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God Knows You - </a:t>
            </a: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Rom 11:33-36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od Kn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ur sorrows, Ex 3:7, Heb 4:14-16, 8:1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ur devotions, 2 Chron 16: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ur thoughts, Ps 44: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ur foolishness, Ps 69:5, frailties, Ps 103: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ur deeds, Ps 139:2, our words, Ps 139: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ur needs,  Matt 6: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Universe He made, Ps 147: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ll things that are made, Prov 15: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ll the Created beings, Matt 10:29-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at might have been, Matt 11: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own, Jn 10:14, All time, Acts 15: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GOD CARES FOR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God is able to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ave you forever, Heb 7: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upply all your needs, 2 Cor 9: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eliver all tempted, Heb 2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ustain and enable, Rom 14: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Keep us from falling, Jude 24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urpass all we could think of, Eph 3: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aise us up like Jesus, Heb 11: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ith God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ll things are possible, Matt 19: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ll things are in his hands, 1 Cor 10: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od’s care is as stable as He is, Rom 8:31-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od’s promises are sure, Matt 28:19-20, Jer 1: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 will always keep us, Jn 10:29, 2 Tim 1: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power is never short to keep, Jude 24-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 will never deny us, 2 Tim 2: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 has provided from eternity past, Phil 4:19, Heb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:16, Eph 3: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 is blessing, 2 Cor 9: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0.  He will make all grace abound to us, Eph 3: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MIRAC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Occur to glorify God’s name, Jn 2:11, 11:40, to accredit spokesmen, Lk 7:18-23, Heb 2:3-4, give evidence, Jn 6:2,14, 10:37-38, 1 Cor 15:13-2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iracles also illustrate the Character of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OVEREIGNTY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Jn 2:1-11, Matt 8:18, Mk 6:33-44, 6:47-52, Jn 18: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Miracles Illustrate God’s Characte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ighteousness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tt 17:1-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Justice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tt 21:18-22, Mk 11:12-14, 20-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Love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tt 9:35-36, 14:14, 15:30-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ternal Life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surrection  Jn 20:2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mniscience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tt 4:18-22, Jn 21:1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mnipresence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tt 28: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mnipotence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Jn 11:25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mmutability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petition of fishes mira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Veracity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tt 8:5-13, Lk 7:1-10, Jn 4:46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race of God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Lk 22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20:50:55Z</dcterms:created>
  <dc:creator>John McEwan</dc:creator>
  <dc:description/>
  <dc:language>en-US</dc:language>
  <cp:lastModifiedBy>John McEwan</cp:lastModifiedBy>
  <dcterms:modified xsi:type="dcterms:W3CDTF">2011-02-08T03:29:09Z</dcterms:modified>
  <cp:revision>9</cp:revision>
  <dc:subject/>
  <dc:title>Systematic The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