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7E1-93B4-492D-A974-AB4F69C7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428-AD03-42C1-871A-5DFC83D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3A8-533D-4CB7-AEFC-9070732F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1FE-24A2-42C9-BD0E-BDD14109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4267-7226-4553-A960-E61F163A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1BD0-079D-4992-815B-3AFE6453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0629-7D57-4A32-97D7-16A965C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7AF1-8583-4EE0-A441-D95A9288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396-9A71-48C8-ADAD-5AAE121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FEC3-A798-45F7-9EAE-6DA3D35B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E14E-8C88-4D07-9BEE-3327314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34B-DC2A-4E7A-9932-948386C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FBC4-DB39-4F97-9C5F-D0CA078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2C8A-24E3-4C54-9F80-CA875AD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1413-8F7D-42CF-992F-0B18F8F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B175-752C-4B9C-9915-FA10903E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374-3D9C-4978-9248-059874CA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57C-721D-4405-B6D5-6F34453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54F-2E47-4788-923F-74D25A5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4E8-6691-43F7-BFBC-2F59CDC0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E09-57C9-4484-91BA-567ED48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7B3-6655-4F31-B7BE-8AACECC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34A-9712-4498-9B77-3C65673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7FB-8C54-49A2-93CB-35F11385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D4E7-1477-4691-A3CA-336AEEE36A5B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59F2-286B-44CF-92DB-9420BEC5DDD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Systematic Theology - Anthropolog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Lecture 36 - 3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he Creation – Man’s Origins and F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cience and the Bi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The early earth may have been “blasted” by the Angelic Conflict, Gen 1:1-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Dating methodology is not “fool-proof”, and clear observations need to be taken, not viewpoints affected by theo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Bible is not a scientific textbook, but when a fact is noted, take it and explore it. Conflict will be resolv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The Bible will at times confirm scie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There is no scientific “law”, just man’s best guess; there is only divine la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Laws are possible only with order/desig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This universe is temporary, 2 Pet 3:10-18, Rev 20:11, 21-22.  He holds it together, Heb 1:3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This creation has a purpose, Heb 2:10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Verdana"/>
              </a:rPr>
              <a:t>God’s Word goes on, Ps 119:89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Phenomena Explained in the Bibl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Pleiades is the pivot point of the Universe, 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Job 38:31-3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Static electricity, Jer 10:1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Round earth, Is 40:22, Prov 8:2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arth rotates upon its axis, Lk 17:2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Air has weight, Job 28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vaporation-precipitation, Eccles 1: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Radiation/polarization of light, Ps 65: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Lightning carries charge, Job 38:3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Circulation of the blood, Eccles 12: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Quarantine for disease control, Lev 13:45-46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cience and Cre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Gen 1-2 give the right sequence for the creation of the worl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ithin these chapters there is the possibility of a “young earth” or an “old earth”; either way it is a temporary earth! 2 Pet 3:10ff, Rev 21-2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Go through the points on pages 99-100 in Book 19 and observe and think. Do not fall out with a believing friend who holds to an old or new earth position.  THINK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Cre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Gen 1:1 is the most attacked verse, because it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teaches, that there is a mind behind the universe, a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eator, and therefore creatures are responsible to Hi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eation occurs in an instant; Ps 33:6, Heb 11:3, 2 Pet 3:5.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It ends in an instant, 2 Pet 3:10-1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dam’s genealogy dates him to 4000 BC, but be cautious of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this date; we speculate on the way ancient men recorded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such things (overlaps, and gap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Words for creation indicate mystery, especially “bara”, Gen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1:1-26. This is what modern science refers to as the “big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bang”, but this is inadequate. “Yatsar” carries a different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spect of the creation, Is 43:7, 45:18, Ps 104:30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Note point 7 on page 101, Book 19.  There was divine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purpose in the creation/recreation of the earth. The “days” of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Genesis may be any length, but the order is instructive.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Remember – we were not there!  Walk through pages 102-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103 noting the points for each verse now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Lect 37 – Man’s Orig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Genesis 1:26-28, 2:19 – 5:5 (Fal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dam’s form was “of God”; this tells us that man was made with characteristics of the divine, a little lower than the angelic being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y use of Free Will, like the angels before him, man falls, Gen 3:1-21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Lies are Pride are destructive, Ps 49:12, Prov 6:16-19, 24:12, Matt 7:21-23, Lk 19:10, Rom 6:14, 1 Cor 5:1-13, Heb 9: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Man’s Fall - Con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Gen 3:14-24, Rom 5:12-21, 1 Cor 15:21-22, Eph 5:21-29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Review “Spirituality”, page 27, “Old Sin Nature”, page 1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alk through the topic – Fruits of the Old Sin Nature – Eph 5:21-29 – note the divisions of them, and their relationship to satanic attack on u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5:19:39Z</dcterms:created>
  <dc:creator>John McEwan</dc:creator>
  <dc:description/>
  <dc:language>en-US</dc:language>
  <cp:lastModifiedBy>John McEwan</cp:lastModifiedBy>
  <dcterms:modified xsi:type="dcterms:W3CDTF">2011-02-11T16:14:20Z</dcterms:modified>
  <cp:revision>5</cp:revision>
  <dc:subject/>
  <dc:title>Systematic Theology - Anthrop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