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5BE6-7354-4A30-A4F3-90090216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C1BE-F2DA-4280-BFDB-CBDC8E34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9572-0C3A-43B6-BB83-0F81CCA3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553B-86E0-4BE5-8E21-2D64D432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58C-A619-4E90-BEA1-538F6F4D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C46-9E0F-4254-ACC9-36D8981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7CAB-9442-4B4F-8CD0-36CE1C1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D71E-2AC1-4839-AA8B-22AFAEA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5FB1-E443-48D5-8A15-F02A8DB5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DD11-7728-4E19-ADB1-707DE39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520E-3664-4152-8B74-8A57311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E8A8-B02E-42A0-A70E-06CD14B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E0F-A348-4132-B7FD-EBF297C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C78-41DC-494D-A2EE-A929DC7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B4E2-0987-44D3-B474-EB30B86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8D13-CB7B-4933-83BC-16E3AABD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B43-7B02-49BB-BEB9-52E448FE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AB34-2B54-4F83-9D3B-B845F93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5E37-28E8-46E7-9137-1C5F983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6ADB-EB1C-40C4-B625-A0742DF3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F744-9AE8-4DCC-9F34-A4870371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C2D4-8F21-474A-911A-B7895C5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9E3AC-03E5-45E2-8D34-A8B71EE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A095-9321-48F1-A656-AA464D9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A837-B8BF-41E2-9C10-CABE741C7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1F34-269C-4F95-950C-3D7D47FEFE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Systematic Theolog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ectures 23-2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egeneration, Indwelling, Sealing, and Baptism of the Spir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Regeneration – “Born Again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God’s Demand of Man – John 3:3-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Natural man is unable to please God, Jn 3:5, 1 Cor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:14-16, Romans 8:1-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New birth is by the Spirit, Jn 1:12, 2 Cor 5:17, Eph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:10, 4:24, Romans 8:16-1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Belief in his person and work is required, Jn 1:12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:16-18, 3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rough faith we are in Him, and He is in us, Gal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:20, Eph 2:10, 4:24, 1 Peter 1:23-25, 1 John 5:10-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Indwelling of Chri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he Lord forewarned the disciples of this major change, John 14:18-2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Indwelling is for fellowship, Gal 2:20, Rom 8:10, Col 1:27, Eph 3:17-19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he Spirit indwells to teach, guide, direct, empower, Jn 14:26, 16:8-11, Rom 8:11, 1 Cor 6:19-2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 Fellowship with the Lord is a by product of walking with the Spirit, Jn 6:63, 8:31-32, Col 3:16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Fellowship stops due to negativity towards the Word of God, 2 Cor 13: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Garamond"/>
              </a:rPr>
              <a:t>The Lord will “knock on the door of the soul”, open it by confession, 1 Jn 1:9, Rev 3:19-2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ea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anctification – Ex 28:36-3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Identification – Ezek 9:4, 1 Kings 21: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ossession – 2 Cor 1:21-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Utilization – Eph 1:12-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Glorification – Eph 4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reservation – Rev 7: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estination – Rev 22: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Bapt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entered into union with Christ by the Spirit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 Cor 12: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is occurs at salvation, Eph 4: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is brings us to equality before God, Gal 3:26-2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share all that the Lord has won, Eph 1:3, Col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:1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is was promised by the Lord, Jn 14:19-20, Acts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:5.  It did not occur before, Col 1:25-2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It has no specific gifts associated, 1 Cor 12:11-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Position in Chri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have a new position eternally in Him, Eph 2:6-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9, 4:6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never alone in fellowship with Him; John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7:1ff, Col 1:26, 3: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in his service, 2 Cor 3:9, 1:9, 6: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ministers of the new covenant, with a new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essage to mankind, 1 Cor 3:6, 6: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ambassadors for Christ, 2 Cor 5: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embers of the Royal Family of God, Gal 6:10, 1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Pet 2: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19:48Z</dcterms:created>
  <dc:creator>John McEwan</dc:creator>
  <dc:description/>
  <dc:language>en-US</dc:language>
  <cp:lastModifiedBy>John McEwan</cp:lastModifiedBy>
  <dcterms:modified xsi:type="dcterms:W3CDTF">2011-02-09T23:34:17Z</dcterms:modified>
  <cp:revision>7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