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20-F0C7-4938-98A0-222BF362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2E4-CBCA-443F-96E4-06B57B1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C16-24E0-44AE-9708-10D6A9E8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181-35BD-4485-8C6D-638CA333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1C2-8DD5-4E0E-AF51-DBF1972A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B6C7-944A-42E3-B1CC-BB49A9E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FB22-AE3E-4C0E-9450-1470923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E571-ECC1-4AE1-BB8B-54E963B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2F23-552F-4962-B58D-813A6513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DFF2-6B77-4FD9-923F-F183C070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F64D-7A4F-45CC-881B-180D6C5D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63C-4A11-4414-B07F-AA8F3BEE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698F-2A0C-466E-84FC-0DA9B01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AF1-40FA-4115-8D4B-8A9F1BC9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1C27-4FFF-45C4-9B30-9AA8013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97BE-1C27-4258-8C28-BA3515FE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49CD-A055-401F-9552-42F41C8A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1E2-AB15-4977-BBCA-E3C6963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06F-39EC-4AC5-97AF-3A59AB4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385-B7D9-44C0-8E72-7BBEE0D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3F8-09EF-4A6A-AC1C-E885E76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6DB-DD8D-4037-B37B-243C5E6E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76E-D1C7-4B14-B114-B52C01FE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9F5-064C-48C0-9B40-69940B5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BAE8-ACBE-45D7-B836-D57E47CE3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FE5-8041-46F5-9C71-E52B7E245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Systematic Theolo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ectures 33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atan’s Work and Dest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atan’s Strategy and His Demonic Tr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Religion – Satan’s Ace Car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is the “Angel of Light”, 2 Cor 11:13-19, 26.  It i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cially acceptable and bloodless religion he loves an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ndor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alse pastors abound who want this sort of religion, I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0:12, Jer 2:8, 2 Pet 2:1-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keeps people blinded by false light in their eyes, 2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r 4:3-4, Col 2:8, 2 Thess 2:9-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pushes false teaching, Rom 16:18, pride, 2 Cor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:12, idolatry, Hab 2;18-19, legalism, 1 Tim 1:7-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loves counterfeits, and distracting activities to keep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eople addicted to the false, and never see the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The Cross and Sata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in, Satan’s power, is broken by the Cross, Col 1:15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2, 1 Jn 2: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sin barrier is down, Jn 12:31, 16:11, Col 2:14, Heb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: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udgment is pronounced, but not executed yet, 2 Cor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:4, Eph 2:2, Rev 20:10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power now is in deception, 1 Pet 5:8-9, and false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hilosophies, Eph 2:8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judgement has been progressively reveale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rough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ride and Lying are his “hooks” in men, Is 14, Ezek 28,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n 8: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od will thoroughly defeat all he stands for, 1 Jn 3: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Satan’s Destin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is still the “prince of this present world”, J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2:31,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4:30, 16:11, Eph 2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is however just a creature; he also has to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swer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 God. Job 1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rist defeated him totally at the Cross, 1 Cor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5:54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6, Heb 2:14-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has a role to play in God’s Plan; inspite of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atred he will be “used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will be bound, Rev 20:1-3, then released to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“sift”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n after the Millennium, and then judge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ternally, and evil will be finally over. Rev 20:10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 is heading down hill to the Lake of Fi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Satan’s Strate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 are warned against him; 2 Cor 2:11, Eph 4:27, 6:11-18, Jas 4:7, 1 Pet 5: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hinders our growth – 1 Pet 5:8, misleads from truth – 1 Tim 5;14-15, encourages disobedience – Jas 4:7-8, creates worry – 1 Pet 5:5-9, fear of death – Heb 2:14-15, accuses us – Job 1:6-11, takes our focus off Jesus – 1 Cor 1:10-11, he beguiles – Gal 3:1, he deceives – Rev 20:7-15, but he will be eliminated forever!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nsolidate these points with the study “Satan’s Work” (p 95 in book 19) as it repeats this from a slightly changed persp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Lect 35 - Demonolo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Occult is backed by Satan’s troops, the falle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gels (demons). All occultic practise was banned a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vil; Lev 19:31, 20:27, Deut 18:9-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vil = demonic influence (Satan’s policy), Is 19:1-3,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zek 21:21, Dan 10:1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emonized nations are destroyed, Deut 18:9-12, I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6:1-7, 47:1-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final battles of man are demon influenced, Rev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6:13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emons are called “hairy ones” Lev 17:7, destroyers i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eut 32:17, and are behind all paganism and reli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7e7ff"/>
                </a:solidFill>
                <a:latin typeface="Arial"/>
              </a:rPr>
              <a:t>Demonic Attac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seek to attack man, Mk 5: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seek to deceive man, 1 Tim 4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know the truth and tremble at it, Jas 2: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speak truth and lies, to deceive more, 2 Chro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8:21, Acts 16:17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atan rules them by hierarchy, Matt 12:24-28, Da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:12, 13:20, Eph 6: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emons are behind Idols/occult, Deut 32:17, P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6:36-38, 2 Chron 10:19-2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may discipline disobedient believers, 1 Cor 5:5, 1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im 3:6-7, causing problems, Job 2:6-8, Mk 5:1-5, Jn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:4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esus has defeated them, Matthew 10:8, 1 Jn 4: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0:25:04Z</dcterms:created>
  <dc:creator>John McEwan</dc:creator>
  <dc:description/>
  <dc:language>en-US</dc:language>
  <cp:lastModifiedBy>John McEwan</cp:lastModifiedBy>
  <dcterms:modified xsi:type="dcterms:W3CDTF">2011-02-11T15:17:28Z</dcterms:modified>
  <cp:revision>8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