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CEB-D57D-41FE-A654-83983513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689-3EAA-4F4B-BB42-34C65773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33E-B1D3-43ED-815A-5D998588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4EF-7F22-4874-9BBF-326F9081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F665-4DA8-49A6-90F8-47886266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28543-383A-44D0-A32E-B5B2F7B3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67C7-AA93-4D4F-881D-8AA1C03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88559-09DA-49C7-9F2B-31CDB86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DA721-B9C3-44ED-9562-F28DC89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E909-B1E4-46D8-B2D9-549EBCC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9363-909A-4BB9-89A9-D7CF30C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658-33AA-47DA-A8D3-7696DD5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4033B-0943-4513-9CD4-E5CACF3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8A5B-DB8A-49C9-B232-526535B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2FD54-2310-4F4A-A171-33A63DD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C12C-5748-4CAD-ACB6-4EE060C8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E03A-4054-4710-B239-BE21F953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5D9-F7F6-424D-B292-A06F3E67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043-7278-47E1-83A7-3544D21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176-601B-42DB-9264-9F1E03D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19A-8D81-42E7-AAA6-AB8A9978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7BF-2E33-453D-AC14-CA39779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1E7-73A9-49D0-A68C-E6D89F0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D56-B235-49E7-8A78-635E126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657-B513-4248-9FC0-8F399DD0D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5DB-3726-47BF-B25F-8BCB3A980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cture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Incar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Virgin Bir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fulfil prophecy he had to be born of a virgin, Is 7:14, 9:6-7, Jn 1:1-5, 14-18, Heb 1:1-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could not be Joseph’s natural son, or he was under the curse of Coniah, Jer 22:28-30. Joseph was of Solomon’s line, through Jeconiah, Mary of Nathan, son of David. Matt 1:6-16, Lk 3:23-3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Jesus was born as Adam was made, without the OSN. 1 Tim 2: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had to be born without a human father, as the OSN is transmitted by the m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hrist - Firstbo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f the Creation – Col 1:15, Jn 1:18, 1 J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f Mary – Matt 1:25, Lk 2: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f the Royal Family of God – Rom 8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f Resurrection – Col 1:18, Heb 1:5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irstfruits of resurrection – 1 Cor 15:20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urch is the assembly of the firstborn – Heb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2:23.  All inherit the blessing won by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Isaiah’s Testim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Godhead – Is 40:12-18, 51: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Incarnation – Is 7:14, 9: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lowly youth – Is 7:15, 9:1-2, 11:1, 53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servanthood – Is 11:2, 42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mildness – Is 42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tenderness – Is 42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Obedience – Is 50: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message – Is 61: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miracles – Is 35:5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sufferings – Is 50:6, 52:13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Rejection – Is 53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Isaiah’s Testimonies Continu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Passion – Is 53: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vicarious death – Is 53: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burial – Is 53: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resurrection – Is 53: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ascension – Is 52: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high priestly ministry – Is 53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exultation – Is 52:13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role as judge – Is 63:1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Second Advent – Is 59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Millennial Reign – Is 9:6-7, 11:3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The Lord’s Testimonies – His Divine Claim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o complete and rewrite Mosaic Law, Matt 5:21-4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re-existence as God, Jn 6:35, 8:12, 58, 12:25, 14:6, 15: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ray in his name, Jn 14: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came from heaven and would go back there, Jn 3:13, 6:33-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2, 14:2-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ower over death, Jn 10:17-18, 11:24-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would rise after 3 days, Jn 2: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will raise the dead on the last day, Jn 5:25-29, 11:2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is the judge of all men, Matt 25:31, Jn 5: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o trust Him was to trust God, Matt 28:18-20, Jn 14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God is revealed by Him, Matt 11:27, Jn 14: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accepted worship from men, Matt 16:16, Jn 1:49, 20: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o see him was to see the father, Jn 14:9-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urther Testimonies by the Lo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He is to be honoured as God, Jn 5:22-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To forgive sin, and give eternal life, Matt 9:2, J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:28, 3:16-21, 6:35, 11: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5.  Eternal judgment awaits all who reject him, Matt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5:41-46, Jn 3:3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6.  Authoritative teaching, Matt 7:29, Mk 1:22, Jn 14: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7.  Universal power claimed, Matt 2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8.  One with the Father, Jn 10: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All revelation fulfilled in him, and that he was the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ality behind all OT “types” of Messiah.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Unbelievers Words – Last Word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udas – Innocent blood – Matt 27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ilate – no crime in him – Jn 19:4-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rod Antipas – nothing worthy of death – Lk 23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ilate’s wife – have nothing to do with this innocent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n – Matt 27: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ying Terrorist – Lk 23: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enturion – this was a righteous man -  Lk 23: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oman Soldiers – truly this was.. – Matt 27: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Book of Revelation carries even more powerful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rds about The Risen Jesus, Rev 1:11, 17, 18, 2:1,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, 12, 18, 3:1, 7, 14,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52:02Z</dcterms:created>
  <dc:creator>John McEwan</dc:creator>
  <dc:description/>
  <dc:language>en-US</dc:language>
  <cp:lastModifiedBy>John McEwan</cp:lastModifiedBy>
  <dcterms:modified xsi:type="dcterms:W3CDTF">2011-02-08T17:32:13Z</dcterms:modified>
  <cp:revision>5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